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FA7EA-E0AD-48FD-96A8-A8235AD54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B76F8-2D4D-4C6E-ACE3-D2B601B0C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B7E7E-4413-4028-9A92-34543EA65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014C0-5AC4-47B6-AA72-B60402A37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2F803-0EF5-451A-9245-79B142615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44440-21FD-4626-9B17-C05A81EA1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AD3F0-B17C-4DA4-AB22-656028CFE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BEBE3-5A16-4F75-A308-465895BB9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6040E-E391-4F40-974D-C08FEECEE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41564-CDEE-4C93-86B0-6C3065180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DFC85-1E23-4A6E-B1F9-9AFF48BDF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B61A2-96DC-4E30-99BF-F6BDB87B6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D410F-CE18-46E2-95D0-24F210567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BBFC1-9535-4C68-9638-C120A3586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EC75B-C3EC-4A3A-BA78-6F6FD0079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61DEF-A1EE-4080-B7C7-BD8775F10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EC28FF-D518-49F2-A7DE-82EB111D8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4175C-80BA-41B0-96FE-F6FC4AD9C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573FB-0C80-4C28-80F5-B0179018E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AAF52-673A-46D8-A6B8-6E61E6738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63962-CE14-4E93-A612-846CC3C14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40448-58E7-42B6-92F3-902F3B465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FEE30-DD16-4C8C-A860-738376B22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8CAE0-993F-4CF8-B124-02217E3C1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AC86-F9F5-4187-A968-41AAA61134A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358D-6FD7-462A-B177-470650699D6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7</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arly Development of State Responsibility</a:t>
            </a:r>
            <a:endParaRPr b="1" lang="en-US" sz="32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rly settlers recognized the importance of education to the future of the United States, but they left the various states with the responsibility for its implementation and develop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was not referred to specifically in the United States Constitution; interpretation of the Tenth Amendment delegated that responsibility differently depending on language in their state constitutions and legisl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velopment of School Finance Policies</a:t>
            </a:r>
            <a:endParaRPr b="1" lang="en-US" sz="32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tates have developed their school finance systems largely by trial and error, with considerable difficulty and sacrifi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c schools were originally largely by land grants, fees, tuition charges, and other nontax fund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nd Grant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orthwest Ordinances of 1785 and 1787 and later land grants did much to help states develop public education.  At first, local districts financed education with little or no assistance, and there were cast differences in a districts ability to provide quality education programs.  By the early part of the twentieth century, the states were making grants to local distric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ges of School Finance Theory</a:t>
            </a:r>
            <a:endParaRPr b="1" lang="en-US" sz="32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eriod of local district financial responsibility, with little or no assistance from the stat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eriod of emerging state responsibility, with the use of flat grants, subventions, and other nonequalizing state allocations to local district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emergence of the Strayer-Haig concept of a foundation progra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eriod of refinement fo the foundation program concep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wer or open-end (shared costs) equalization practic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orists of School Finance</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qualization principles of George D. Strayer and Robert M. Haig were being applied to school finance syst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ul Mort and others did much to improve the equalization concept during the middle years of the twentieth centu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1:50:51Z</dcterms:created>
  <dc:creator>Cynthia Altemueller</dc:creator>
  <dc:description/>
  <dc:language>en-US</dc:language>
  <cp:lastModifiedBy>AEURY</cp:lastModifiedBy>
  <dcterms:modified xsi:type="dcterms:W3CDTF">2006-01-27T22:12:57Z</dcterms:modified>
  <cp:revision>3</cp:revision>
  <dc:subject/>
  <dc:title>Finance in Education</dc:title>
</cp:coreProperties>
</file>